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2C7AC-E970-4731-A611-8ECCA0EF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4D46-AD7B-4FA7-96F8-984DF446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B81B-09C9-497A-8BE2-2D199F13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59FF-FC3F-48D3-B80B-DE62180E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29EE-2347-451B-A15F-F9166777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4E7C-AE37-41F9-BAAC-834F6186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A92FA-E58F-4DFF-9164-17D8117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A753C-F91D-4F46-9DB9-CB2BB7A7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50C32-112C-4CA8-BA9E-F7DAAD2C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36909-2046-485A-989F-D7C0E4F4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A3453-15BC-4A3D-BE82-C0C1FE8A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36B2-C32F-4283-8064-8D9B2850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5FB08-808F-4039-AF2D-5A706D57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BD588-4D5D-4D8C-A81A-63692B8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C44D5-339F-414E-B209-8A632359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220BB-53EB-42A3-BF28-BE766488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41A3C-C443-425F-9D8F-221FFC2D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29CC-5226-46A0-9349-2DDFF172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74A3-7FC2-4850-872C-59453421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7D7D-5AB1-42F6-82B7-D4E2BBE2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9395-4B53-40BF-9856-8F7FF2D4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0A49-3924-401F-899B-A807835B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6486-7DF0-4B00-96C9-A9124763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7287-D349-4DC6-8A6E-8A17823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EF34-EDC2-4B3A-872B-F14CB28DE793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4490-1D9A-4FE4-A000-8974AE4EAB32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5249880"/>
            <a:ext cx="3075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144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ructure, Process, &amp;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895480"/>
            <a:ext cx="55562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omas B. Valuck, M.D., J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Officer &amp; Senior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3244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F911-B930-43B1-ADB2-6AC5D3916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gage stakehold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ly experience from Medicare VBP initiatives and from private-sector performance-based payment initi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multiple approaches to accommodate multiple practice arrangements and care sett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1D26-E1C0-4961-909D-114CBFA558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eneral (continu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void creating additional health care disparities and work to reduce existing 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an ongoing evaluation process to assess impact, monitor for unintended consequences, and support improvement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tailed principles will be addressed in relevant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A75D-CDBC-4270-864C-764455E748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r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troduction, Context, Overarching Questions, and comments – 75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asures presentation and comments –         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unch – 45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fternoon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centive Structure presentation &amp; comments -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Strategy and Public Reporting presentations &amp; comments – 40 minutes e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al comments – 3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2398-EDFD-4C44-A66C-831780442B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te your name and organ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mit remarks to 2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ments first from those on-site, then from teleconference particip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l free to leave the room, as needed;  only formal break will be lu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824480" y="22392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F755-399A-45E3-881F-BCA838C75E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ll the stated objectives, assumptions, and principles support higher quality of care for Medicare beneficiaries and better value from Medicare spending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other planning parameters should be considered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0AAA-72D0-4DEF-A9B6-A068C426FA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 it desirable to have several different approaches to accommodate different practice arrangements across various care sett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so, how should this be accomplishe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2D88-72AA-4656-B6C2-AA699842F4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eps can CMS take in the design and implementation of the PVBP Plan to reduce health care disparities or, at a minimum, to avoid exacerbating existing disparit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DA16-B65C-4DFC-A193-A6BA9CBF07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170160" y="223920"/>
            <a:ext cx="27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3F16-29F0-4316-89DE-6E903A81DD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egislative backgrou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view of CMS process to develop the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VBP assumptions and general design princi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roach to conducting the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arching Questions for com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3465-433F-4A67-BEEA-CB412AE7A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egislative Backgroun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 Improvements for Patients and Providers Act (MIPPA) of 2008 requires Secretary of Health and Human Services to develop a plan to transition to value-based purchasing for physician and other professional servi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 to Congress to be submitted by May 1, 2010 containing Plan with recommendations for legislation and administrative a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CE24-7A1B-42DC-8E2A-180D9A0607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Development Structure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MS PVBP Workgroup with Subgroups to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BFE2-965B-4E87-A507-A6BB14785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 Subgroup Lead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chael Rapp, MD, J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Clinical Standards &amp; Quality (OCSQ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Karen Milgat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Policy (O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errence Kay &amp; Thomas Valuck, MD, JD, 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enter for Medicare Manag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lliam Matos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CSQ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ne Thorp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yne Hammen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34AD-7964-4BF3-AC98-899DF806E3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MS PVBP Workgroup Tasks and Expected Timelin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 Workgroup &amp;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Issue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duct Listening Session for          Stakeholder Input on Issue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Option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posed Listening Session for Input on Option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pare draft PVBP Plan Re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mit Final PVBP Plan Report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371600"/>
            <a:ext cx="990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p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ec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E2B4-233E-44F9-89D3-2B81A99A6D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by CMS PVBP Workgroup and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ted on CMS Website November 24,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nes key design issues for this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sumptions intended to provide flexibility in developing Design Options and draft PVBP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keholder comments, both presented at this Session and submitted in writing, will assist in developing Design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number of different options will be modeled to explore implications for fee-for-service Medicare population and providers serv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ssues Paper Approa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6EFD-4C22-440C-B051-C2773FA029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mary focus will be on performance-based pay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accommodate different practice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recognize the contributions of the members of the health professional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consider multiple levels of accountability, including individual, teams, groups, and “accountable care entitie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8B24-08B3-4908-8288-74F9F923A3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be at least budget-neutral across at least Medicare Parts A and B and will seek to identify savin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” options will be considered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focus will be fee-for-service Medi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design will have short-term (1 – 3 years) and long-term (&gt;3 years) timefr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D3FD-2CB1-4781-9EC7-3B766D448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8:51Z</dcterms:modified>
  <cp:revision>4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823259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9914282</vt:r8>
  </property>
</Properties>
</file>